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27A-5BC1-4662-830C-D2E8298A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957-D5FE-463B-981B-69F24FAC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CB1-4B82-45CD-8833-2631B4B9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915-244E-42D5-8494-0AE24CCC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B2E-9C0A-4672-9B04-EEA8EB42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3CA-43F2-40C3-A3A8-B25E95B1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7E8-F569-41B0-883D-FD2117CA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6DC-827B-42F8-8BD2-B706BECF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420-BCF0-40F8-976C-7D584345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1E9-21CF-486C-B2A3-D2E8E702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8E0-A6D7-4B58-9DB7-29EC6D7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423-15A6-48C0-B4C6-A0373BF1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66880" y="9143640"/>
            <a:ext cx="2438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56236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0D74-AFE8-4EBC-87D3-3EE31FF2F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0120" y="250920"/>
          <a:ext cx="7074000" cy="95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250920"/>
                    <a:ext cx="7074000" cy="95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636000" y="147312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2160" y="5931000"/>
            <a:ext cx="475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      EA                    143.75                $575.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1800" y="7581960"/>
            <a:ext cx="5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5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29840" y="7661160"/>
            <a:ext cx="1194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.N.  PUR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1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777240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670640" y="712800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ane T. 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90480" y="895680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1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75200" y="712800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ane T. 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0200" y="8939160"/>
            <a:ext cx="1536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1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4476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500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41760" y="8651880"/>
            <a:ext cx="1178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4496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02240" y="1446120"/>
            <a:ext cx="833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6-48-19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2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87720" y="7226280"/>
            <a:ext cx="411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7960" y="775980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2040" y="867420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-396720" y="1325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7080" y="7226280"/>
            <a:ext cx="500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.J. PARRISH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RLOS J. R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10240" y="78058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5720" y="867420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07920" y="7184880"/>
            <a:ext cx="468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19720" y="78058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859788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919080" y="7226280"/>
            <a:ext cx="476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2880" y="775980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0760" y="8826480"/>
            <a:ext cx="199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CKS N. DeMAIL, LTC, R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59880" y="859788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00720" y="8915400"/>
            <a:ext cx="544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-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8040" y="8621640"/>
            <a:ext cx="155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139640" y="903276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852120" y="7203960"/>
            <a:ext cx="1627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7320" y="774396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7800" y="857556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80440" y="762120"/>
            <a:ext cx="3321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DGET ACTIVITIES COMPREHENSIVE 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760" y="1407960"/>
            <a:ext cx="66492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You are the budget clerk assigned to the Headquarters, 3d Brigade Armor, 77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ry, 54th Infantry Division (Mechanized), Fort Stewart, GA 31314.  You are responsibl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the obligation and commitment records; performing the weekly and joint Disbur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/Activity reconciliation, and review of unliquidated obligations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are responsibl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C A142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000" y="270360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400" y="3160800"/>
            <a:ext cx="710028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5-26 to your FCR. Use date of request as Today’s 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01 to 10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nswer questions 1-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30-49 to your FCR.  Today’s date is 20 Oct *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20 to 10 2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view the NSFOP listing and make any adjustments as necessary to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Answer questions 8-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9320" y="9596520"/>
            <a:ext cx="655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I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7280" y="520560"/>
            <a:ext cx="466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PTVALUK  AVK-130  2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560" y="825480"/>
            <a:ext cx="4111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 10   01 TO 10   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GRA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IRECT 2 ACITIVITY B ACCT - CLASS * 2020 76 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0880" y="1359000"/>
            <a:ext cx="18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A142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1751040"/>
            <a:ext cx="67788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  TAA  FAC  BLK  DOCUMENT  NR     EOR    YR    CSR  DIRECT-OBL  FUNDED-OBL  AUTOMATIC-OBL  CR-RTN-ME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6440" y="205596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CAS4176TT10003   21T2                              8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BAR7732TT10001   21T2                              3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" y="2513160"/>
            <a:ext cx="3973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440" y="3122640"/>
            <a:ext cx="3942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 347   IRV4825TT10002    21T2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9680" y="342756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460.00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  460.00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460.00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6440" y="403704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JON1927TT10005   21T2                              3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347   BEN1927TT10008   21T2                              5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9680" y="449424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835.00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  835.00 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835.00 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6800" y="5103720"/>
            <a:ext cx="39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CAS4176TT10003   21T1                             2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BAR7732TT10001   21T1                             4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760" y="556092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6440" y="6170760"/>
            <a:ext cx="3942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 347   IRV4825TT10002    21T1 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647532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6440" y="708516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JON1927TT10005   21T1                                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347   BEN1927TT10008   21T1                              1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760" y="757728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520" y="8228160"/>
            <a:ext cx="39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     231     3     230   PRC1002**C1713   2321       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9680" y="856764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21          MTD   OBLIG PERIOD   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444600"/>
            <a:ext cx="466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PTVALUK  AVK-130  2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6560" y="749160"/>
            <a:ext cx="4111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 10   01 TO 10   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GRA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IRECT 2 ACITIVITY B ACCT - CLASS * 2020 76 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0880" y="1282680"/>
            <a:ext cx="18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A142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" y="1674720"/>
            <a:ext cx="69390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  TAA  FAC  BLK  DOCUMENT  NR     EOR    YR    CSR       DIRECT-OBL  FUNDED-OBL  AUTOMATIC-OBL  CR-RTN-ME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440" y="2131920"/>
            <a:ext cx="4107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    231     3     386   PRC1125**P2100   2572 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7880" y="251316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575.00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72      MTD   OBLIG TOTAL                  575.00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  575.00 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080" y="3198960"/>
            <a:ext cx="4127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    231     3     386   W54FTATT4002       26EB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7880" y="357984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6,600.00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EB      MTD   OBLIG TOTAL               6,600.00                               6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6,600.00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4265640"/>
            <a:ext cx="4079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     211     3     401   PRC1007**C1772    26AR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7880" y="457056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AR      MTD   OBLIG TOTAL           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7840" y="5334120"/>
            <a:ext cx="741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7840" y="5486400"/>
            <a:ext cx="741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717480"/>
            <a:ext cx="7571160" cy="81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(Refer to the FCR)  Based on the reconciliation, what action would you tak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Take no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move SMI7459TT10004 from your FC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 Call the DO to find out why the document has not processed and make no changes to your FC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Call the DO to find out why the document has not processed and remove the transaction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CR until it processes on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(Refer to the DOR, EOR 21T2)  What DATE/BLK # should you post to the FCR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IRV4825TT1000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19 Oct/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 14 Oct/3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19 Oct/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  1 Oct/3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(Refer to the FCR)  What is the current uncommitted balance for EOR 21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   7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 $14,23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13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  9,94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date column on the FCR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To show when the availability of funds was cer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Ending date of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Beginning date of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The posted current date of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ich column on the FCR reflects the current quarterly funding allow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bligation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Commitment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ncommitted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 Funding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(Refer to the DOR)  In what stage is the transaction DRN:  PRC1002**C1713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 Obl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ccrued Expenditure/Ex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Disbur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(Refer to the DOR)  Who made the input to DRN:  PRC1125**P21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rocess c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Budget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Supply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 Disbursing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965880" y="7186680"/>
            <a:ext cx="141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therine Gar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88320" y="7186680"/>
            <a:ext cx="139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L. M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5592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3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87840" y="718668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0480" y="720396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241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3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128120" y="7203960"/>
            <a:ext cx="132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le B. Rod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6040" y="7203960"/>
            <a:ext cx="1525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nald M. Joh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4440" y="7805880"/>
            <a:ext cx="130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E.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3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818520" y="151128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8720" y="251460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3080" y="7696080"/>
            <a:ext cx="198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NDELL PURCHASE, LTC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58720" y="757728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960" y="9677520"/>
            <a:ext cx="665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3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605040" y="9185400"/>
            <a:ext cx="1219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Dia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3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618720" y="9185400"/>
            <a:ext cx="115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J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3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19720" y="56260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14160" y="903276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61360" y="7128000"/>
            <a:ext cx="1524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Paul W. Burrou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167280" y="81644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7280" y="79358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2732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62240" y="720396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1520" y="720396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9320" y="9596520"/>
            <a:ext cx="658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98640" y="846000"/>
            <a:ext cx="189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NTINUATION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38240" y="846000"/>
            <a:ext cx="96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880" y="1227240"/>
            <a:ext cx="488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roughs Office Machines, 123 East 46th Street, Atlanta, GA  316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6520" y="1608120"/>
            <a:ext cx="2060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 #  DAFI01**C17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200" y="1913040"/>
            <a:ext cx="714780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                SUPPLIES/SERVICES                     QTY         UNIT         PRICE 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360" y="2370240"/>
            <a:ext cx="5655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" y="2370240"/>
            <a:ext cx="37796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rental for IBM System 4002  (EOR 233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rental for Software Package 12  (EOR 233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4440" y="2370240"/>
            <a:ext cx="30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4080" y="2370240"/>
            <a:ext cx="428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58040" y="2370240"/>
            <a:ext cx="1077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,000.00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48400" y="2362320"/>
            <a:ext cx="1035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,000.0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5280" y="3436920"/>
            <a:ext cx="64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26720" y="3817800"/>
            <a:ext cx="573048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IP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FOB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IP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VO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(Must include) - Contrac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or’s name and remit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SPECTION AND ACCEPT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ment will be made upon receipt and acceptance of the good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768120" y="9185400"/>
            <a:ext cx="131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I. Fil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366800" y="895680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9720" y="56674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31120" y="7128000"/>
            <a:ext cx="140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ger S. Pe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4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-1440" y="0"/>
          <a:ext cx="7765920" cy="1005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0"/>
                    <a:ext cx="7765920" cy="1005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96040" y="56260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76120" y="7116840"/>
            <a:ext cx="1037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ARY SCHU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81040" y="8985240"/>
            <a:ext cx="1021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8960" y="9677520"/>
            <a:ext cx="665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4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771480" y="865188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29080" y="718668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87840" y="720396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7680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47800" y="865188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3224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64640" y="7186680"/>
            <a:ext cx="139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L. M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8160" y="7186680"/>
            <a:ext cx="141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therine Gar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210920" y="9032760"/>
            <a:ext cx="1348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139640" y="905652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4139640" y="903276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86920" y="426960"/>
            <a:ext cx="487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  REF:  PTVAUK  AVK-130     2   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480" y="731880"/>
            <a:ext cx="597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10  20 TO 10  26    PROGRAM-DIRECT 2 ACTIVITY 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T-CLASS  *  2020 76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4040" y="1189080"/>
            <a:ext cx="202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=  A142  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1920" y="1581120"/>
            <a:ext cx="6999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A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A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A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L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OCUMENT  #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Y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S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IRECT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UNDED-OB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UTOMATIC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R-RTN-MEM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6640" y="1874880"/>
            <a:ext cx="4047480" cy="241200"/>
            <a:chOff x="296640" y="1874880"/>
            <a:chExt cx="4047480" cy="241200"/>
          </a:xfrm>
        </p:grpSpPr>
        <p:sp>
          <p:nvSpPr>
            <p:cNvPr id="289" name=""/>
            <p:cNvSpPr/>
            <p:nvPr/>
          </p:nvSpPr>
          <p:spPr>
            <a:xfrm>
              <a:off x="296640" y="18748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7080" y="18748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82000" y="18748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10960" y="187488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8920" y="1874880"/>
              <a:ext cx="1226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7732TT1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34480" y="18748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77120" y="1874880"/>
              <a:ext cx="567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.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915840" y="21034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7600" y="21034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40440" y="21034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760" y="22971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44080" y="2297160"/>
            <a:ext cx="1408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86.35           98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04800" y="24843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 986.35           98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9760" y="2747880"/>
            <a:ext cx="4014360" cy="241200"/>
            <a:chOff x="329760" y="2747880"/>
            <a:chExt cx="4014360" cy="241200"/>
          </a:xfrm>
        </p:grpSpPr>
        <p:sp>
          <p:nvSpPr>
            <p:cNvPr id="303" name=""/>
            <p:cNvSpPr/>
            <p:nvPr/>
          </p:nvSpPr>
          <p:spPr>
            <a:xfrm>
              <a:off x="329760" y="27478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0920" y="27478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5840" y="27478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44440" y="274788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72760" y="2747880"/>
              <a:ext cx="1226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7732TT1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8320" y="27478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69560" y="2747880"/>
              <a:ext cx="574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4.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888840" y="30178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50600" y="30178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13440" y="30178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87760" y="32115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7760" y="321156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25.14            92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77800" y="33987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925.14            92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02760" y="3686040"/>
            <a:ext cx="4041720" cy="241200"/>
            <a:chOff x="302760" y="3686040"/>
            <a:chExt cx="4041720" cy="241200"/>
          </a:xfrm>
        </p:grpSpPr>
        <p:sp>
          <p:nvSpPr>
            <p:cNvPr id="317" name=""/>
            <p:cNvSpPr/>
            <p:nvPr/>
          </p:nvSpPr>
          <p:spPr>
            <a:xfrm>
              <a:off x="302760" y="368604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920" y="36860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88840" y="368604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7080" y="36860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5760" y="368604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I7459TT1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41320" y="368604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42560" y="368604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88840" y="39322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50600" y="39322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13440" y="39322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87760" y="41259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67760" y="412596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0.00            54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7800" y="43131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540.00            54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07280" y="39560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02760" y="4576680"/>
            <a:ext cx="4041720" cy="241200"/>
            <a:chOff x="302760" y="4576680"/>
            <a:chExt cx="4041720" cy="241200"/>
          </a:xfrm>
        </p:grpSpPr>
        <p:sp>
          <p:nvSpPr>
            <p:cNvPr id="332" name=""/>
            <p:cNvSpPr/>
            <p:nvPr/>
          </p:nvSpPr>
          <p:spPr>
            <a:xfrm>
              <a:off x="302760" y="45766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3920" y="4576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88840" y="45766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17080" y="4576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5760" y="457668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I7459TT1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41320" y="45766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42560" y="457668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5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888840" y="478800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50600" y="478800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13440" y="47880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7760" y="501660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67760" y="498168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5.00            3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77440" y="516888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335.00             3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07640" y="4811760"/>
            <a:ext cx="636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02760" y="5432400"/>
            <a:ext cx="3994200" cy="241200"/>
            <a:chOff x="302760" y="5432400"/>
            <a:chExt cx="3994200" cy="241200"/>
          </a:xfrm>
        </p:grpSpPr>
        <p:sp>
          <p:nvSpPr>
            <p:cNvPr id="347" name=""/>
            <p:cNvSpPr/>
            <p:nvPr/>
          </p:nvSpPr>
          <p:spPr>
            <a:xfrm>
              <a:off x="302760" y="543240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3920" y="54324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8840" y="543240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17080" y="54324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4680" y="543240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H4093TT10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41320" y="543240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9920" y="5432400"/>
              <a:ext cx="707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35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02760" y="5584680"/>
            <a:ext cx="3997080" cy="241200"/>
            <a:chOff x="302760" y="5584680"/>
            <a:chExt cx="3997080" cy="241200"/>
          </a:xfrm>
        </p:grpSpPr>
        <p:sp>
          <p:nvSpPr>
            <p:cNvPr id="355" name=""/>
            <p:cNvSpPr/>
            <p:nvPr/>
          </p:nvSpPr>
          <p:spPr>
            <a:xfrm>
              <a:off x="302760" y="55846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3920" y="5584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88840" y="55846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17080" y="5584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44680" y="558468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N1927TT10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41320" y="55846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25280" y="5584680"/>
              <a:ext cx="574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.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02760" y="5737320"/>
            <a:ext cx="4011480" cy="241200"/>
            <a:chOff x="302760" y="5737320"/>
            <a:chExt cx="4011480" cy="241200"/>
          </a:xfrm>
        </p:grpSpPr>
        <p:sp>
          <p:nvSpPr>
            <p:cNvPr id="363" name=""/>
            <p:cNvSpPr/>
            <p:nvPr/>
          </p:nvSpPr>
          <p:spPr>
            <a:xfrm>
              <a:off x="302760" y="573732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920" y="57373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8840" y="573732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17080" y="57373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5760" y="573732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9701TT100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41320" y="573732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12320" y="573732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878040" y="600696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39440" y="600696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02640" y="600696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76960" y="620064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56600" y="6200640"/>
            <a:ext cx="151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,404.86          3,404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66280" y="638820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3,404.86          3,404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02520" y="603108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719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91600" y="6669000"/>
            <a:ext cx="4024440" cy="241200"/>
            <a:chOff x="291600" y="6669000"/>
            <a:chExt cx="4024440" cy="241200"/>
          </a:xfrm>
        </p:grpSpPr>
        <p:sp>
          <p:nvSpPr>
            <p:cNvPr id="378" name=""/>
            <p:cNvSpPr/>
            <p:nvPr/>
          </p:nvSpPr>
          <p:spPr>
            <a:xfrm>
              <a:off x="291600" y="666900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2760" y="66690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7680" y="666900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5920" y="66690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33520" y="666900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H4093TT10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30160" y="666900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14120" y="666900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446480" y="6845400"/>
            <a:ext cx="122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1600" y="6821640"/>
            <a:ext cx="4019400" cy="241200"/>
            <a:chOff x="291600" y="6821640"/>
            <a:chExt cx="4019400" cy="241200"/>
          </a:xfrm>
        </p:grpSpPr>
        <p:sp>
          <p:nvSpPr>
            <p:cNvPr id="387" name=""/>
            <p:cNvSpPr/>
            <p:nvPr/>
          </p:nvSpPr>
          <p:spPr>
            <a:xfrm>
              <a:off x="291600" y="682164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2760" y="68216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7680" y="682164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06280" y="682164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30160" y="682164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49120" y="6821640"/>
              <a:ext cx="461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.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91600" y="6973920"/>
            <a:ext cx="4005360" cy="241200"/>
            <a:chOff x="291600" y="6973920"/>
            <a:chExt cx="4005360" cy="241200"/>
          </a:xfrm>
        </p:grpSpPr>
        <p:sp>
          <p:nvSpPr>
            <p:cNvPr id="394" name=""/>
            <p:cNvSpPr/>
            <p:nvPr/>
          </p:nvSpPr>
          <p:spPr>
            <a:xfrm>
              <a:off x="291600" y="697392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2760" y="69739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7680" y="697392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05920" y="69739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34600" y="697392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9701TT100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30160" y="697392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9920" y="6973920"/>
              <a:ext cx="707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15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878040" y="720900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39440" y="720900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02640" y="72090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76960" y="740268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56600" y="7402680"/>
            <a:ext cx="151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449.40          2,44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66280" y="758988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2,449.40          2,44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02520" y="7232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09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84160" y="783576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45920" y="783576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08760" y="783576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82720" y="8029440"/>
            <a:ext cx="1917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21 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86760" y="8029440"/>
            <a:ext cx="15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,000.00       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73120" y="821700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70,000.00       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32320" y="7859880"/>
            <a:ext cx="81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5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9496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00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364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8960" y="9596520"/>
            <a:ext cx="661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25000" y="480960"/>
            <a:ext cx="487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  REF:  PTVAUK  AVK-130     2   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3560" y="874800"/>
            <a:ext cx="597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10  20 TO 10  26    PROGRAM-DIRECT 2 ACTIVITY 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T-CLASS  * 2020 76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2120" y="1467000"/>
            <a:ext cx="202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=  A142  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1920" y="1969920"/>
            <a:ext cx="6999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A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A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A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L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OCUMENT  #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Y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S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IRECT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UNDED-OB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UTOMATIC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R-RTN-MEM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5200" y="2197080"/>
            <a:ext cx="410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5**C2108     2332     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6480" y="244332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240,000.00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2     MTD    OBLIG TOTAL              240,000.00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240,000.00 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5200" y="3054240"/>
            <a:ext cx="414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9**C1774      2335     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6480" y="334008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5     MTD    OBLIG TOTAL        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200" y="3927600"/>
            <a:ext cx="410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9**C1774     2339     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6480" y="416088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9     MTD    OBLIG TOTAL        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840" y="4765680"/>
            <a:ext cx="420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3**C1594      2572                         5,49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205**P2133      2572                         1,0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   231    3   538   W54FTATT4004         2572                        1,500.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6480" y="5303880"/>
            <a:ext cx="42094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8,025.00                    8,02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72     MTD    OBLIG TOTAL                15,200.00                  15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5,200.00                  15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6480" y="5913360"/>
            <a:ext cx="42094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AR     MTD    OBLIG TOTAL                 1,150.00                    1,1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  1,150.00                    1,1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5560" y="6459480"/>
            <a:ext cx="4161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   231    3   538   W54FTATT4001        26EB                      1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205**P2133      26EB                        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7560" y="6921360"/>
            <a:ext cx="42231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EB     MTD    OBLIG TOTAL        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5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09520" y="596880"/>
            <a:ext cx="15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D  26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69080" y="596880"/>
            <a:ext cx="280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N STOCK FUND ORDERS AND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46400" y="596880"/>
            <a:ext cx="117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OF 25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040" y="1054080"/>
            <a:ext cx="3231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C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P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P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Q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LL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/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D      21           *    2020    0    76   9505   0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20" y="1522440"/>
            <a:ext cx="7510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T PROG  APC EOR  ODC  DOCUMENT NO NAME  OBL AMT    ACC AMT    DISB AMT  EOC-HR  O-DT  A-DT  D-DT  AF DF LI  FAC  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160" y="1751040"/>
            <a:ext cx="7606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  2000  A142   21T2    2    BAR7732TT10001            396.35          396.35         396.35                       * 284  * 284  * 296        F    K    3      0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17400" y="1895400"/>
            <a:ext cx="2455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29440" y="1879560"/>
            <a:ext cx="113256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4176TT10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7732TT10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4176TT10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V4285TT10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59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95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V4285TT10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59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N1927TT10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4093TT10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9701TT10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N1927TT10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4093TT10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9701TT10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2**C17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5**C21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9**C17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9**C17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3**C159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125**P2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205**P21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7**C17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7**C17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23560" y="2014560"/>
            <a:ext cx="4680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700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8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3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4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4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4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8516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8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3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4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228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2.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9.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95.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51840" y="1879560"/>
            <a:ext cx="437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7800" y="1879560"/>
            <a:ext cx="46944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20360" y="1879560"/>
            <a:ext cx="437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83480" y="1509840"/>
            <a:ext cx="26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30480" y="1886040"/>
            <a:ext cx="2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24520" y="1911240"/>
            <a:ext cx="2638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09920" y="1886040"/>
            <a:ext cx="2455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74880" y="1886040"/>
            <a:ext cx="3096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62485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640080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5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55960" y="711360"/>
            <a:ext cx="7444440" cy="84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  (Refer to the FCR)  What is the current Uncommitted Balance for EOR 2100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.  $9,385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$9,265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$9,359.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$9,239.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.  If you have a negative balance in the Uncommitted Balance column of your FCR wh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ublic Law are you in violation of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Title 13;  USC 15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Title 1517;  USC 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.  Title 31;  USC 15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Title 1517;  USC 3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.  (Refer to FCR, EOR 2600)  Situation:  You have just received a Purchase Request 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itment document in your office with a total dollar amount of $2,000.00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Post it to your FC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.  Return the document to the originator with an explanation funding is not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 this tim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Do not post the document to your FCR but forward to contracting for further processing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.  What is the primary purpose of the NSFOP listing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.  Contains open expenditure accounting trans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Contains expenditure ceiling and undelivered orders by program el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Will provide a listing of all old oblig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Provides fund managers with unobligated ceiling dollars by appropriation/allot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.  What is an open transaction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A transaction in the commitment st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A transaction in which the dollar value of the obligation and accrual mat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A transaction in which the dollar value of the disbursement is greater than the oblig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ccr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.  A transaction in which the dollar value of the obligation, accrual, and the disburs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 not eq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 FOR QUESTIONS 13-16 REFER TO THE NSF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3.  What is the amount of Undelivered Orders for EOR 2339, DRN:  PRC1009**C1774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$         0.00, this is not an Undeliverable Ord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.  $  1,2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$12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$13,2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5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64960" y="824040"/>
            <a:ext cx="7225200" cy="79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 What is the amount of Undelivered Orders for EOR 26AR, DRN:  PRC1007**C177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$       0.00, this is not an Undelivered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1,1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2,3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1,09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 What is the amount of Unliquidated Obligations for EOR 21T1, 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$    5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  27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  49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  5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 After conducting a reconciliation with DO what action would you take on the transaction, EOR 21T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Have DO move the disbursement from SMI7495TT10004 to the obligation un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 SMI7459TT10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Have DO move the obligation from SMI7459TT10004 to the disbursement u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 SMI7495TT10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djust the commitments on your FCR-27.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No action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 What action does the document on page 36 requi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o the FCR and forward to finance for obl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st to the FCR but wait until later to obli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 No action required at this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  What is the MTD OBLIG TOTAL for EOR 2321, on the DOR 20-26 Octo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2,449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 $70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  2,099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  What is the amount processed on the DOR during the time period 20-26 October for EOR 257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  5,49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 $  8,02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15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  (Refer to the NSFOP)  What was the last date transaction EOR 21T2 affected the oblig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BAR7732TT1000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*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*2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25 Oct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26 Oct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5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48680" y="1119240"/>
            <a:ext cx="748152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.  The General Fund Delinquent Report has the same format as what report?  What is thi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NSFOP/used to reconcile closed trans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 NSFOP/used to reconcile DRN’s where the obligation is greater than the disbursement a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 criteria exceeds the criteria established by the Liquidation Indicator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DOR/used to reconcile closed transactions where the obligation is less than the disburs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NSFOP/used to reconcile open transactions where there is an “F” in the disbursement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column of the NSF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.  (Refer to the NSFOP)  What does the ODC for EOR 26AR, DRN:  PRC1007**C1772 tell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Funds spent outside the U.S.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Funds spent within the U.S.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Funds spent in a foreign coun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5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914400" y="7203960"/>
            <a:ext cx="153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260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051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960" y="9596520"/>
            <a:ext cx="661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62120" y="7203960"/>
            <a:ext cx="153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765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8960" y="9596520"/>
            <a:ext cx="661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-320760" y="17827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06200" y="7226280"/>
            <a:ext cx="484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62520" y="780084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8960" y="9596520"/>
            <a:ext cx="661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-549360" y="20113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240" y="73454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7080" y="7226280"/>
            <a:ext cx="500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.J. PARRISH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RLOS J. R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86200" y="78184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8960" y="9596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1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677400" y="9190080"/>
            <a:ext cx="130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Harry S. Gol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8960" y="9596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1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7T13:59:44Z</dcterms:created>
  <dc:creator>SFL</dc:creator>
  <dc:description/>
  <dc:language>en-US</dc:language>
  <cp:lastModifiedBy>Administrator</cp:lastModifiedBy>
  <cp:lastPrinted>2000-12-19T15:23:25Z</cp:lastPrinted>
  <dcterms:modified xsi:type="dcterms:W3CDTF">2005-04-07T20:51:32Z</dcterms:modified>
  <cp:revision>17</cp:revision>
  <dc:subject/>
  <dc:title>No Slide Title</dc:title>
</cp:coreProperties>
</file>